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A47-21FD-4F85-A3BC-26F4F4F7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758-9550-4D43-904C-64CD0BEF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8D1-0E98-4809-8FBE-796D8132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987-4875-4A14-A568-900C2B09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C9E4-60FA-472E-8533-082E3324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E46-2F0D-4A66-92F8-26D22896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41CA-CABB-40FB-A435-56E435A9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AC1C-34B6-4136-B2A1-97ED5956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4143-D1B8-48D8-B168-A3044AE0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4076-BEF9-4A1D-B9D0-0BD2BB28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6B02-37BD-4B47-BD26-B62EA00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890-473F-487D-9275-39D21D7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926D-84BE-42EF-81D0-C3087BD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C4D-5EB5-4F07-A0F7-7C865C1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B3CB-CA0B-4E39-ACC0-0C15F791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BD0B-498F-447A-A0A3-C07B69EB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42F5-3C9F-45EF-BC60-02CF30DE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F4F-1549-46AF-900C-7CEFA57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314-1317-4C58-A775-B3460DE6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A83-CAAE-41D9-8C0B-621E661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F17-41D6-43EB-919E-82851552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437-82F3-4C6F-A845-13715B4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339-AC37-452D-9F55-3D69F8B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F79-B539-453B-A176-684FC13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7916-A76F-4279-A641-3ABE351FBF40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272C-E940-41AF-9B90-017EC44CA558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java.sun.com/products/jsp/docs.html" TargetMode="External"/><Relationship Id="rId2" Type="http://schemas.openxmlformats.org/officeDocument/2006/relationships/hyperlink" Target="http://java.sun.com/products/jsp/docs.html" TargetMode="External"/><Relationship Id="rId3" Type="http://schemas.openxmlformats.org/officeDocument/2006/relationships/hyperlink" Target="http://java.sun.com/products/jsp/docs.html" TargetMode="External"/><Relationship Id="rId4" Type="http://schemas.openxmlformats.org/officeDocument/2006/relationships/hyperlink" Target="http://java.sun.com/products/jsp/docs.html" TargetMode="External"/><Relationship Id="rId5" Type="http://schemas.openxmlformats.org/officeDocument/2006/relationships/hyperlink" Target="http://java.sun.com/products/jsp/docs.html" TargetMode="External"/><Relationship Id="rId6" Type="http://schemas.openxmlformats.org/officeDocument/2006/relationships/hyperlink" Target="http://java.sun.com/products/jsp/docs.html" TargetMode="External"/><Relationship Id="rId7" Type="http://schemas.openxmlformats.org/officeDocument/2006/relationships/hyperlink" Target="http://java.sun.com/products/jsp/docs.html" TargetMode="External"/><Relationship Id="rId8" Type="http://schemas.openxmlformats.org/officeDocument/2006/relationships/hyperlink" Target="http://java.sun.com/products/jsp/docs.html" TargetMode="External"/><Relationship Id="rId9" Type="http://schemas.openxmlformats.org/officeDocument/2006/relationships/hyperlink" Target="http://java.sun.com/products/jsp/docs.html" TargetMode="External"/><Relationship Id="rId10" Type="http://schemas.openxmlformats.org/officeDocument/2006/relationships/hyperlink" Target="http://java.sun.com/products/jsp/docs.html" TargetMode="External"/><Relationship Id="rId11" Type="http://schemas.openxmlformats.org/officeDocument/2006/relationships/hyperlink" Target="http://java.sun.com/products/jsp/docs.html" TargetMode="External"/><Relationship Id="rId12" Type="http://schemas.openxmlformats.org/officeDocument/2006/relationships/hyperlink" Target="http://java.sun.com/products/jsp/docs.html" TargetMode="External"/><Relationship Id="rId13" Type="http://schemas.openxmlformats.org/officeDocument/2006/relationships/hyperlink" Target="http://java.sun.com/products/jsp/docs.html" TargetMode="External"/><Relationship Id="rId14" Type="http://schemas.openxmlformats.org/officeDocument/2006/relationships/hyperlink" Target="http://java.sun.com/products/jsp/docs.html" TargetMode="External"/><Relationship Id="rId15" Type="http://schemas.openxmlformats.org/officeDocument/2006/relationships/hyperlink" Target="http://java.sun.com/books/tutorial/servlets" TargetMode="External"/><Relationship Id="rId16" Type="http://schemas.openxmlformats.org/officeDocument/2006/relationships/hyperlink" Target="http://java.sun.com/books/tutorial/servlets" TargetMode="External"/><Relationship Id="rId17" Type="http://schemas.openxmlformats.org/officeDocument/2006/relationships/hyperlink" Target="http://java.sun.com/books/tutorial/servlets" TargetMode="External"/><Relationship Id="rId18" Type="http://schemas.openxmlformats.org/officeDocument/2006/relationships/hyperlink" Target="http://java.sun.com/books/tutorial/servlets" TargetMode="External"/><Relationship Id="rId19" Type="http://schemas.openxmlformats.org/officeDocument/2006/relationships/hyperlink" Target="http://java.sun.com/books/tutorial/servlets" TargetMode="External"/><Relationship Id="rId20" Type="http://schemas.openxmlformats.org/officeDocument/2006/relationships/hyperlink" Target="http://java.sun.com/books/tutorial/servlets" TargetMode="External"/><Relationship Id="rId21" Type="http://schemas.openxmlformats.org/officeDocument/2006/relationships/hyperlink" Target="http://java.sun.com/books/tutorial/servlets" TargetMode="External"/><Relationship Id="rId22" Type="http://schemas.openxmlformats.org/officeDocument/2006/relationships/hyperlink" Target="http://java.sun.com/books/tutorial/servlets" TargetMode="External"/><Relationship Id="rId23" Type="http://schemas.openxmlformats.org/officeDocument/2006/relationships/hyperlink" Target="http://java.sun.com/books/tutorial/servlets" TargetMode="External"/><Relationship Id="rId24" Type="http://schemas.openxmlformats.org/officeDocument/2006/relationships/hyperlink" Target="http://java.sun.com/books/tutorial/servlets" TargetMode="External"/><Relationship Id="rId25" Type="http://schemas.openxmlformats.org/officeDocument/2006/relationships/hyperlink" Target="http://java.sun.com/books/tutorial/servlets" TargetMode="External"/><Relationship Id="rId26" Type="http://schemas.openxmlformats.org/officeDocument/2006/relationships/hyperlink" Target="http://java.sun.com/books/tutorial/servlets" TargetMode="External"/><Relationship Id="rId27" Type="http://schemas.openxmlformats.org/officeDocument/2006/relationships/hyperlink" Target="http://jakarta.apache.org/tomcat/tomcat-4.0-doc" TargetMode="External"/><Relationship Id="rId28" Type="http://schemas.openxmlformats.org/officeDocument/2006/relationships/hyperlink" Target="http://jakarta.apache.org/tomcat/tomcat-4.0-doc" TargetMode="External"/><Relationship Id="rId29" Type="http://schemas.openxmlformats.org/officeDocument/2006/relationships/hyperlink" Target="http://jakarta.apache.org/tomcat/tomcat-4.0-doc" TargetMode="External"/><Relationship Id="rId30" Type="http://schemas.openxmlformats.org/officeDocument/2006/relationships/hyperlink" Target="http://jakarta.apache.org/tomcat/tomcat-4.0-doc" TargetMode="External"/><Relationship Id="rId31" Type="http://schemas.openxmlformats.org/officeDocument/2006/relationships/hyperlink" Target="http://jakarta.apache.org/tomcat/tomcat-4.0-doc" TargetMode="External"/><Relationship Id="rId32" Type="http://schemas.openxmlformats.org/officeDocument/2006/relationships/hyperlink" Target="http://jakarta.apache.org/tomcat/tomcat-4.0-doc" TargetMode="External"/><Relationship Id="rId33" Type="http://schemas.openxmlformats.org/officeDocument/2006/relationships/hyperlink" Target="http://jakarta.apache.org/tomcat/tomcat-4.0-doc" TargetMode="External"/><Relationship Id="rId34" Type="http://schemas.openxmlformats.org/officeDocument/2006/relationships/hyperlink" Target="http://jakarta.apache.org/tomcat/tomcat-4.0-doc" TargetMode="External"/><Relationship Id="rId35" Type="http://schemas.openxmlformats.org/officeDocument/2006/relationships/hyperlink" Target="http://jakarta.apache.org/tomcat/tomcat-4.0-doc" TargetMode="External"/><Relationship Id="rId36" Type="http://schemas.openxmlformats.org/officeDocument/2006/relationships/hyperlink" Target="http://jakarta.apache.org/tomcat/tomcat-4.0-doc" TargetMode="External"/><Relationship Id="rId37" Type="http://schemas.openxmlformats.org/officeDocument/2006/relationships/hyperlink" Target="http://jakarta.apache.org/tomcat/tomcat-4.0-doc" TargetMode="External"/><Relationship Id="rId3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3399"/>
                </a:solidFill>
                <a:latin typeface="Tahoma"/>
              </a:rPr>
              <a:t>Java Server Pa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819520"/>
            <a:ext cx="6782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echnologie zur Erzeugung dynamischer Webseiten basierend auf Java-Serv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61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646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8497D9E-6162-48F8-9473-2E1A97FE7CFA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2. Was sind Java Server P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Java Server Pages sind eine Möglichkeit, Serverseitig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ynamische Webseiten analog der Methoden CGI und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Servlets zu generieren. Die Besonderheit der Java Serv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Pages liegt in der Trennung des Oberflächendesigns der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zu erzeugenden HTML-Seite und des programmier-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technischen Aufwandes“ </a:t>
            </a:r>
            <a:r>
              <a:rPr b="0" lang="de-DE" sz="2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80D72B6-0A89-4CDF-ABD1-FBF58C7D6EA8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2.   Java Server P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funktionier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 der ersten Anfrage eines Clients (Webbrowser) wird die JSP in eine Servlet-Klasse umgeschrieben und compilie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 diesem Zeitpunkt wird sie genau wie ein Servlet behande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B6B6395-F2EE-4AF9-9F08-472DC3B93DD0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2.   Java Server P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erkmale von JSP‘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r komplette Umfang der Sprache Java steht bereit (JavaBeans, JDBC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hr einfaches Sitzungs-Konz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urch selbst-definierte Tags einfach in HTML zu integr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durch ist eine komfortable Trennung zwischen HTML und Programm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1AA39D0-E5DC-4276-9A09-0AB641FA1330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3399"/>
                </a:solidFill>
                <a:latin typeface="Tahoma"/>
              </a:rPr>
              <a:t>3. Java Server Pages anwenden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SP – „Skripte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SP – „Aktionen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bindung von JavaBe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nutzerdefinierte T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 kleines Beispi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559C2B0-6EF7-4967-9ECC-A313EE5F7FF3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3.   JSP – „Skripte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ava Code-Abschnitte werden durch das Tag &lt;% ... %&gt; in HTML eingefüg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8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rte von Ausdrücken werden mit &lt;%= ... %&gt; direkt eingesetz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8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klarationen sehen so aus: &lt;%! ...%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8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&lt;%- dies ist ein Kommentar ! -%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1055BA1-B0EB-4F20-B4CF-E45B7739043C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3.   JSP – „Aktionen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ktionen, um den Ablauf einer JSP zu verändern: (Standardaktion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jsp:include page=„URL“ ... 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jsp:forward page=„URL“ ... 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jsp:plugin ... 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247EC12-EFB6-48D1-8CB5-B7427451752D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3.   Einbindung von JavaBe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klaration innerhalb der JSP mit der Aktion ‚useBean‘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jsp:useBean   id=„Name“   class=„BeanKlasse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cope=„Gültigkeitsbereich“ ...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s Setzen einer Eigenschaf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jsp:setProperty name=„BeanName“ property=„propertyName“ value=„Wert“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s abrufen einer Eigenschaf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jsp:getProperty name=„BeanName“ property=„propertyName“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DB697B8-FBA2-41DA-B364-62EF8A6F4A42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3.   Benutzerdefinierte T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tützung im Paket</a:t>
            </a:r>
            <a:br>
              <a:rPr sz="32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javax.servlet.jsp.tag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ür jeden Tag wird eine Klasse benötigt, die den Tag behande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finition durch tag-library-descriptor in XML und der Direktive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%@ taglib ... %&gt;</a:t>
            </a: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J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0530120-DA2C-4FD2-B0E3-07C4B16317C0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3. Ein kleines Beispi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ahoma"/>
              </a:rPr>
              <a:t>Datei „zaehler.jsp“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%@ page errorPage="errorpge.jsp" session="true"%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jsp:useBean id="zaehler" scope="session" class="bsp.ZaehlerBean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% session.setMaxInactiveInterval(90); %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jsp:useBea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% zaehler.increment(); %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h4&gt;Anzahl der Zugriffe: &lt;%= zaehler.getAnzahl() %&gt;&lt;/h4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a href="zaehler.jsp"&gt;Reload&lt;/a&gt;&lt;p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a href="ende.jsp"&gt;Ende der Session&lt;/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D18B182-D942-4035-885F-49E01AA2A55C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3. Ein kleines Beispi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Datei „ende.jsp“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%@ page errorPage="errorpge.jsp" %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% session.invalidate(); %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h4&gt;Ende der Session&lt;/h4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 href="zaehler.jsp"&gt;Start der Session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9D53CE6-7E80-4484-9D97-343489F46B7A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Inha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dynamisches 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ebseiten generieren mit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Java Serv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Java Server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Java Server Pages anwe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3FE9C0A-CCD8-40A8-83C1-F99848FCF15F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3. Ein kleines Beispi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ackage bsp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Tahoma"/>
              </a:rPr>
              <a:t>Datei „ZaehlerBean.java“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mport javax.servl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mport javax.servlet.http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class ZaehlerBean implements HttpSessionBindingListen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rivate int anzahl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void incremen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nzahl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int getAnzahl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turn anzah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6FC10CD-C3E7-4F43-B5F3-46F9BEBC23FF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iteratu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avaServer Pages und Servle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antner/Schmidt/Wabnitz, Data Becker, 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ava Server und Servle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oßbach/Schreiber, Addison Wesley,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ava-Bausteine für E-Commerce-Anwend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berhart/Fischer, Carl Hanser Verlag,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ava Servlet Programm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unter/Crawford, O‘Reilly, 19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java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un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com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products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jsp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docs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http:/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java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sun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19"/>
              </a:rPr>
              <a:t>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0"/>
              </a:rPr>
              <a:t>com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1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2"/>
              </a:rPr>
              <a:t>books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3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4"/>
              </a:rPr>
              <a:t>tutorial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5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6"/>
              </a:rPr>
              <a:t>serv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7"/>
              </a:rPr>
              <a:t>http:/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8"/>
              </a:rPr>
              <a:t>jakarta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29"/>
              </a:rPr>
              <a:t>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0"/>
              </a:rPr>
              <a:t>apache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1"/>
              </a:rPr>
              <a:t>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2"/>
              </a:rPr>
              <a:t>org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3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4"/>
              </a:rPr>
              <a:t>tomcat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5"/>
              </a:rPr>
              <a:t>/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6"/>
              </a:rPr>
              <a:t>tomcat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  <a:hlinkClick r:id="rId37"/>
              </a:rPr>
              <a:t>-4.0-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1.   dynamisches 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dynamisches HTML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tische HTML-Seiten reichen nicht aus, um größere Web-Anwendungen zu realisier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forderungen an dynamisches 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fache Programmi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komplizierte Anbindung an Datenban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tzungs-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nelle Ausführungsgeschwindigke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ennung von Design und Programmi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91B3811-F869-4B06-8FD9-D288FB712AA8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1.   dynamisches 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Häufig benutzte Metho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GI (z.B. mit Perl, C,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bserver-API‘s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NSAPI, ISAPI, Apache-API,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rver Side Includes (S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rver-seitige Skripte (z.B. PH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9A9B660-98F4-47FC-AB2E-7D8B43DD867E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1.   dynamisches 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Problem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rennung zwischen Design un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G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ML-Dokument in ‘print‘-Anweisungen des CGI-Quellc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rverseitige Skript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mcode im HTML-Dok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62F80BA-4A02-4C1D-B42E-EC11D2795AEA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2. Webseiten generieren mit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ava Servlets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grammierschnittstelle, um HTML-Seiten mit Java zu generie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ava Server Pages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nzept, um Webseiten zu generieren, das intern auf die Servlet-API aufba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602CFEC-DE09-4E2B-BFD6-36CABCADE69B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2.   Java Servl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9E89942-E927-44DC-882A-72C9484AA1F4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28800" y="1828800"/>
          <a:ext cx="57913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913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2.   Java Servl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sind Servle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Java-Klassen, die das Interfac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javax.servlet.Servl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plementier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istens Subklassen v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javax.servlet.http.HttpServ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CA36E29-122A-4CDB-ABEA-B56C11831C7B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2.   Java Servl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r Lebenszyklus eines Servle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r Browser schickt eine Anfrage an den Web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st das Servlet noch nicht geladen (instanziiert), so wird es vom Servlet-Container geladen, der darauf die Methode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it(...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ruf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Methode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ervice(...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rd aufgerufen, in der das Servlet den HTML-Code erzeug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r Servlet-Container beendet das Servlet eventuell mit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estroy(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911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seminar Wintersemester 20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chen Pfe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CBEB35E-1810-42AA-9F19-480B9D18661A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9:49:46Z</dcterms:created>
  <dc:creator>Jochen Pfeiffer</dc:creator>
  <dc:description/>
  <dc:language>en-US</dc:language>
  <cp:lastModifiedBy>Jochen Pfeiffer</cp:lastModifiedBy>
  <dcterms:modified xsi:type="dcterms:W3CDTF">2001-09-20T11:38:11Z</dcterms:modified>
  <cp:revision>40</cp:revision>
  <dc:subject/>
  <dc:title>PowerPoint-Präsentation</dc:title>
</cp:coreProperties>
</file>